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CE4E-405A-4546-B5C8-0B8D6A97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13AA-0E33-4FAE-B0FF-8B014243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6396-9CEE-4156-B685-37B34E97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57A4-61E6-4AD0-B715-0980660B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F570-3587-4CCE-AD92-2F00678C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48F1-C7D9-4FC4-938A-B7041031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EEF7-6FCC-4104-904F-A1598578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3733-4CC7-4B83-8A76-390BF879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15B3-9829-42EF-9D82-161F08F4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BF2-7FE8-4498-A84A-7D65D0B0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BFC4-6C68-4F86-920E-021745B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853A-C1F7-4426-AA45-6EB5680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D0A1-7397-420D-B4C1-AAA690E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14FA-7554-4051-95E4-A72BC6C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C995-84DE-4280-BB27-7F14BD2A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A0E9-0C9C-4AB4-8933-B7865202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084F-B147-45F5-A333-83E3FE1F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F186-7B59-4B3B-B35D-9476ED5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5C58-05C6-4F1D-8F49-0ACE128A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CA66-1776-42E3-9812-D9669B32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1B5D-A41B-4835-8A08-97F5DA0B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4470-FBB8-4B02-8DF3-AF4BB3F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F173-B299-4F48-9DD5-8CBBC2D6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F0D9-3F5F-4D83-AC3F-8A21C837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3955-8F69-496A-81C2-D5C991896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9C0C-E632-48F8-9575-598B5E21C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 şi motore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ustibil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obţine lucru mecanic din gaze încălzite prin arderea combustibilil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4T06:03:41Z</dcterms:modified>
  <cp:revision>7</cp:revision>
  <dc:subject/>
  <dc:title>Petrolul mişcă omenirea</dc:title>
</cp:coreProperties>
</file>